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EEB-BE71-4929-9371-EDBFA1E5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EBF-EF7E-4A33-8F43-F4070ED2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5E91-5B7C-4E13-9339-181C5E5C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64F-1D24-47FD-A3BF-D5295A04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E70B-FC5B-4C45-A8C6-5006353A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84AF-F33B-406D-A29A-A97E6A09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51B9-DE42-4065-98E0-523DC01B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A08D-5656-409F-A37C-7C518AEA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3A65-8B17-4EC7-B49B-1DF263F8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7324-AE1E-4089-9D33-9B5A966D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B04F-2EA4-4152-A1BD-21DE23F7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12EE-DA5A-44D6-8E16-0DF5904E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7B0E-611B-4E57-B8F7-AB3730B9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5893-F069-4263-8325-EFF377E6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F818-E206-49FE-B035-B35A2221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0339-A100-4E30-AEB3-3945930B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ED22-7BC4-4DBB-93BA-6385C05F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0B0-5FD4-4C4D-87CB-02D12A10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C64-BE2C-4660-9150-826A87C1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4953-8341-4F4C-AB23-19E68F3A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B013-8705-484B-A5E7-F3E03A19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7C7-1A70-4560-82FD-9DD9FE73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58D-5037-4F1B-B1A7-3DD90BD2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CFF-D331-4255-ADF3-4B0B8B02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D58C-38C0-4DA8-8116-5EA2DF4FDED8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1C90-E093-49F2-A9E4-824A694B949F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  <a:ea typeface="Arial"/>
              </a:rPr>
              <a:t>Properties of Real Number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ea typeface="Arial"/>
              </a:rPr>
              <a:t>Goal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Arial"/>
              </a:rPr>
              <a:t>: Identify the Properties and give an algebraic exampl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Reflex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Reflexive Property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:  The same expression is written on both sides of the equal sig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 + b = a + b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Symmetric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Symmetric Property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: Flip sid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f a = b, then b = 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ransit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Transitive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f a = b and b = c, then a = 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bsolute Valu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absolute value of a number is the distance it is away from zero on the number lin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0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istance is always positive so absolute values are always positive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You cannot travel -3 miles, so distance must be positive!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bsolute Valu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-4| = 4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4| = 4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-1/2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-3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.01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|-3.4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|-4| + |-7| =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Properties of Real Number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properties of real numbers allow us to manipulate expressions and equations and find the values of a variabl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ommutat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Commutative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 Positions of terms chang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 Deals with ORDER.  It does not matter   what order you ADD or MULTIPL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ddition:  a + b = b + 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ultiplication: ab = b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ssociat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Associative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 The grouping of terms changes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 “regrouping”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ddition: (a + b) + c = a + (b + c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ultiplication: (ab)c = a(bc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dentity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Identity Properties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: Get original term bac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dditive Identity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x + 0 = x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Multiplicative Identity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1(x) = x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Invers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Arial"/>
              </a:rPr>
              <a:t>Inverse Properties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: add to 0 and multiply to 1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dditive Inverse Property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 + -a = 0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ultiplicative Inverse Property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6680" y="4952880"/>
          <a:ext cx="1595520" cy="11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952880"/>
                    <a:ext cx="159552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Distributiv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Distributive Property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(b+c) = ab + ac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(j + k)4 = 4j + 4k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Name th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4 = 4+0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5(x - 4) = 5x - 20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24(2) = 2(24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(3 + 4) + 7 = 3 + (4 + 7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38080" y="5638680"/>
          <a:ext cx="236232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638680"/>
                    <a:ext cx="236232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Name the Property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(7+3)+2 = 2+(7+3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1(4) = 4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9 + 0 = -9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6 + 4 = 4 + 6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18:29:45Z</dcterms:created>
  <dc:creator>PA Department of Education</dc:creator>
  <dc:description/>
  <dc:language>en-US</dc:language>
  <cp:lastModifiedBy>Parkland High School</cp:lastModifiedBy>
  <dcterms:modified xsi:type="dcterms:W3CDTF">2010-09-13T12:13:46Z</dcterms:modified>
  <cp:revision>4</cp:revision>
  <dc:subject/>
  <dc:title>Unit 1  1.2  Properties of Real Numbers  </dc:title>
</cp:coreProperties>
</file>